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86CE-461B-44ED-8DED-7FF7A94401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210E-F7A4-4F25-8471-C8E5386656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7A77-257A-4526-B6E1-F9D88E79E3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D3F8-FD17-44B6-B65C-D03734A008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8893-FAFA-40BE-AE4E-6D442B7D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41F8-48CC-4DB7-8EB2-AC7B44A2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989-1F2B-483D-9F00-6F430BD2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F40D-ACA4-4779-A064-FE67FBD0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79D7-CB10-4390-87FF-81429D77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D2CD-747E-49FF-A5FB-F0E2EA9C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740F-E140-4D21-A46C-413BC9BF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E72E-B4FA-45B8-B2DC-F05867B7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FB97-2031-48E0-84AE-323ED747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5011-5652-4114-91BC-DEFF474B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A01C-62FE-4ADF-A504-8E5F4591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2ECF-1543-4590-BC9F-CA82C27D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F38C-9251-43B6-BDEE-C40347BC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954B-E6AE-46B3-9FE6-507DB94A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B842-D6AE-45F8-87F6-69D8BF71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8141-90F7-4CB1-B1D2-DF27314D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8C26-7324-4D52-A6F0-7C7055D5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9B771-B83B-47FE-9D98-BDB58EF1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2A2E0-68B8-4E93-BDF0-03A8FC27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60DCE-C57D-4C45-8B77-D470C76C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C0D805-1654-4240-87A9-A4D923B3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C931D-021B-4DE8-863B-2E1254AF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5C88-E6FA-49CF-9C5F-01ACE661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CDDD9F-0776-4917-B3AC-718FE3AD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081FF-14BE-40BB-9E2B-A2E52289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82F00-21C1-48F6-B111-2C3C5189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DAEDF2-A9D8-47F0-8949-2B30ACA9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E3E94-FAFC-444A-A0A2-55C2C845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0B0FD-CEF0-46F5-98DF-026D89F1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AB91C-BFEC-422D-862C-18CA1517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3C997-7817-4637-871A-64AF1591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48E08-5F14-4362-B03C-69C56E0C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B5A28-223B-40F2-A764-CF0F0698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F729-1A61-45B1-A6CC-B5D2E20A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E55C3-A1B2-4B25-9FAB-6DF11821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12FF5-68CA-40EE-8699-0F0A77B4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D90E9-2630-4470-83CB-60B6BB23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6C9C1-38A9-445F-9A32-02241121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8936A-D58F-4739-A089-F8207F1B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C3EF9-4264-47B0-A65D-FF57814A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1D7E8-A7FC-4D0C-8A5E-BE6813BD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CBFA5-6B0C-4CEA-9CF9-684EF9CF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E2B44-33D5-48A3-8B15-40F9D57B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0D5-42C7-4CB1-99D0-56CFF1A8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2581-05E1-443C-B9E5-4422CD73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A02-8F3E-42AD-9B53-2CD35E01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CB15-D7CE-4C7C-82F4-E7B0BAC3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DEA9-F722-409D-9C94-E6FA483D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ttangolo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ttangolo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ttangolo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ttangolo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tangolo arrotondato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ttangolo arrotondato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ttangolo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ttangolo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ttangolo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ttangolo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ttangolo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ttangolo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1D0A-E9C4-4DC3-AF66-3AD9559027D3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ttangolo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tangolo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tangolo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tangolo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ttangolo arrotondato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ttangolo arrotondato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ttangolo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tangolo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ttangolo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182A-F369-46CE-83DA-CABD7DB078E1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ttangolo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tangolo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tangolo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ttangolo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ttangolo arrotondato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tangolo arrotondato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ttangolo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ttangolo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ttangolo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ttangolo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ttangolo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ttangolo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D684-F4A5-4403-9BCC-2A68EFC77962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ttangolo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ttangolo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ttangolo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tangolo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ttangolo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ttangolo arrotondato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ttangolo arrotondato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ttangolo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ttangolo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ttangolo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ttangolo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ttangolo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ttangolo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3E8C-C2DE-40D7-AEA8-AA8DCF9395E5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85680" y="4000680"/>
            <a:ext cx="54864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Comic Sans MS"/>
              </a:rPr>
              <a:t>Scuola dell’infanzia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Comic Sans MS"/>
              </a:rPr>
              <a:t>“</a:t>
            </a:r>
            <a:r>
              <a:rPr b="1" lang="it-IT" sz="2400" spc="-1" strike="noStrike">
                <a:solidFill>
                  <a:srgbClr val="404040"/>
                </a:solidFill>
                <a:latin typeface="Comic Sans MS"/>
              </a:rPr>
              <a:t>Pier della Francesca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Comic Sans MS"/>
              </a:rPr>
              <a:t>D.D Empoli 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Comic Sans MS"/>
              </a:rPr>
              <a:t>Sez .B ( 5  anni )  a.s. 2019/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Comic Sans MS"/>
              </a:rPr>
              <a:t>            </a:t>
            </a:r>
            <a:r>
              <a:rPr b="0" lang="it-IT" sz="2400" spc="-1" strike="noStrike">
                <a:solidFill>
                  <a:srgbClr val="404040"/>
                </a:solidFill>
                <a:latin typeface="Comic Sans MS"/>
              </a:rPr>
              <a:t>Ins:   Domenici Nad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Rettangolo 3" descr=""/>
          <p:cNvPicPr/>
          <p:nvPr/>
        </p:nvPicPr>
        <p:blipFill>
          <a:blip r:embed="rId1"/>
          <a:stretch/>
        </p:blipFill>
        <p:spPr>
          <a:xfrm>
            <a:off x="469800" y="268200"/>
            <a:ext cx="8204400" cy="13654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CORSO FORMAZIONE AMBITO 8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«  ARTE E DISEGNI NELLA SCUOLA DELL’INFANZIA»</a:t>
            </a:r>
            <a:endParaRPr b="0" lang="en-US" sz="16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4" name="Picture 8" descr="Risultato immagine per mandala delle stagioni"/>
          <p:cNvPicPr/>
          <p:nvPr/>
        </p:nvPicPr>
        <p:blipFill>
          <a:blip r:embed="rId2"/>
          <a:stretch/>
        </p:blipFill>
        <p:spPr>
          <a:xfrm>
            <a:off x="5435640" y="4130640"/>
            <a:ext cx="347328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omic Sans MS"/>
              </a:rPr>
              <a:t>Infine l’estate…</a:t>
            </a:r>
            <a:br>
              <a:rPr sz="4000"/>
            </a:br>
            <a:r>
              <a:rPr b="0" lang="it-IT" sz="2400" spc="-1" strike="noStrike">
                <a:solidFill>
                  <a:srgbClr val="04617b"/>
                </a:solidFill>
                <a:latin typeface="Comic Sans MS"/>
              </a:rPr>
              <a:t>dipinta con caldi colori</a:t>
            </a:r>
            <a:endParaRPr b="0" lang="en-US" sz="24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54" name="Immagine 2" descr=""/>
          <p:cNvPicPr/>
          <p:nvPr/>
        </p:nvPicPr>
        <p:blipFill>
          <a:blip r:embed="rId1"/>
          <a:stretch/>
        </p:blipFill>
        <p:spPr>
          <a:xfrm>
            <a:off x="5724360" y="3130560"/>
            <a:ext cx="2592720" cy="2455920"/>
          </a:xfrm>
          <a:prstGeom prst="rect">
            <a:avLst/>
          </a:prstGeom>
          <a:ln w="0">
            <a:noFill/>
          </a:ln>
        </p:spPr>
      </p:pic>
      <p:pic>
        <p:nvPicPr>
          <p:cNvPr id="255" name="Segnaposto contenuto 8" descr=""/>
          <p:cNvPicPr/>
          <p:nvPr/>
        </p:nvPicPr>
        <p:blipFill>
          <a:blip r:embed="rId2"/>
          <a:stretch/>
        </p:blipFill>
        <p:spPr>
          <a:xfrm>
            <a:off x="774720" y="2251080"/>
            <a:ext cx="3198960" cy="1589040"/>
          </a:xfrm>
          <a:prstGeom prst="rect">
            <a:avLst/>
          </a:prstGeom>
          <a:ln w="0">
            <a:noFill/>
          </a:ln>
        </p:spPr>
      </p:pic>
      <p:pic>
        <p:nvPicPr>
          <p:cNvPr id="256" name="Immagine 10" descr=""/>
          <p:cNvPicPr/>
          <p:nvPr/>
        </p:nvPicPr>
        <p:blipFill>
          <a:blip r:embed="rId3"/>
          <a:stretch/>
        </p:blipFill>
        <p:spPr>
          <a:xfrm>
            <a:off x="826920" y="4606920"/>
            <a:ext cx="341820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3410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ticipiamo un poco questa stagione rispetto al calendario….ma non possiamo fare altrimenti….le temperatura sono alte , il giardino è rigoglioso ma i colori sono già cambiati…basta osservare l’erba che ha perduto il suo verde brillan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ccoci a scegliere ed osservare il dipinto di VAN GOGH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che in questa occasione bambini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segnano le spighe ed il sole, poi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pletano il lavoro : attaccano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egnetti sui raggi del sole, le  cannucce si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formano in  spighe,  il sale gross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lorato con la tempera diventa il prato…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CasellaDiTesto 2"/>
          <p:cNvSpPr/>
          <p:nvPr/>
        </p:nvSpPr>
        <p:spPr>
          <a:xfrm>
            <a:off x="1295280" y="63324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000"/>
                </a:solidFill>
                <a:latin typeface="Comic Sans MS"/>
              </a:rPr>
              <a:t>E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Immagine 2" descr=""/>
          <p:cNvPicPr/>
          <p:nvPr/>
        </p:nvPicPr>
        <p:blipFill>
          <a:blip r:embed="rId1"/>
          <a:stretch/>
        </p:blipFill>
        <p:spPr>
          <a:xfrm>
            <a:off x="826920" y="3063960"/>
            <a:ext cx="25927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CasellaDiTesto 6"/>
          <p:cNvSpPr/>
          <p:nvPr/>
        </p:nvSpPr>
        <p:spPr>
          <a:xfrm>
            <a:off x="900000" y="2637000"/>
            <a:ext cx="7842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nostro progetto si è conclu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 bambini si sono avvicinati all’arte e sono riusciti a riprodurre quadri famosi utilizzando materiali di varia na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…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esta esperienza ha voluto insinuare in loro l’idea di poter creare opere senza necessariamente rimanere ancorati alle tecniche usuali…..pensando in modo diverg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00000" y="888840"/>
            <a:ext cx="7842240" cy="1067040"/>
          </a:xfrm>
          <a:prstGeom prst="rect">
            <a:avLst/>
          </a:prstGeom>
          <a:solidFill>
            <a:srgbClr val="b0dfa1"/>
          </a:solidFill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omic Sans MS"/>
              </a:rPr>
              <a:t>CONCLUSIONI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62" name="Immagine 3" descr=""/>
          <p:cNvPicPr/>
          <p:nvPr/>
        </p:nvPicPr>
        <p:blipFill>
          <a:blip r:embed="rId1"/>
          <a:stretch/>
        </p:blipFill>
        <p:spPr>
          <a:xfrm>
            <a:off x="611280" y="4724280"/>
            <a:ext cx="8130960" cy="1800360"/>
          </a:xfrm>
          <a:prstGeom prst="rect">
            <a:avLst/>
          </a:prstGeom>
          <a:ln w="0">
            <a:noFill/>
          </a:ln>
        </p:spPr>
      </p:pic>
      <p:pic>
        <p:nvPicPr>
          <p:cNvPr id="263" name="Immagine 5" descr=""/>
          <p:cNvPicPr/>
          <p:nvPr/>
        </p:nvPicPr>
        <p:blipFill>
          <a:blip r:embed="rId2"/>
          <a:stretch/>
        </p:blipFill>
        <p:spPr>
          <a:xfrm>
            <a:off x="763560" y="4876920"/>
            <a:ext cx="8131320" cy="1800000"/>
          </a:xfrm>
          <a:prstGeom prst="rect">
            <a:avLst/>
          </a:prstGeom>
          <a:ln w="0">
            <a:noFill/>
          </a:ln>
        </p:spPr>
      </p:pic>
      <p:pic>
        <p:nvPicPr>
          <p:cNvPr id="264" name="Immagine 6" descr=""/>
          <p:cNvPicPr/>
          <p:nvPr/>
        </p:nvPicPr>
        <p:blipFill>
          <a:blip r:embed="rId3"/>
          <a:stretch/>
        </p:blipFill>
        <p:spPr>
          <a:xfrm>
            <a:off x="900000" y="885960"/>
            <a:ext cx="1270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2209320"/>
            <a:ext cx="8229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Questo progetto è stato ideato per sviluppare e potenziare  il pensiero divergente nei bambini della nostra sezio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prefigge lo scopo di osservare e vivere le differenze sostanziali delle quattro stagioni, guardando la natura attraverso gli occhi degli artisti e dando vita a copie delle loro opere, lasciando spazio alla fantasia ed alla creatività, utilizzando non le tecniche tradizionali, ma materiali di varia natur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4617b"/>
                </a:solidFill>
                <a:latin typeface="Comic Sans MS"/>
              </a:rPr>
              <a:t>Finalità del progetto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7" name="Immagine 4" descr=""/>
          <p:cNvPicPr/>
          <p:nvPr/>
        </p:nvPicPr>
        <p:blipFill>
          <a:blip r:embed="rId1"/>
          <a:stretch/>
        </p:blipFill>
        <p:spPr>
          <a:xfrm>
            <a:off x="485640" y="911160"/>
            <a:ext cx="20163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CasellaDiTesto 11"/>
          <p:cNvSpPr/>
          <p:nvPr/>
        </p:nvSpPr>
        <p:spPr>
          <a:xfrm>
            <a:off x="611280" y="3141720"/>
            <a:ext cx="807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ovendo analizzare le differenze tra le quattro stagion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progetto si articola su tutto l’anno scola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 bambini osservano i cambiamenti naturali del giardino della scuola, osservano alcuni dipinti per ogni stagione e realizzano i loro lav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16000" y="355680"/>
            <a:ext cx="61200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Trebuchet MS"/>
              </a:rPr>
              <a:t>Durata del progetto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30" name="Picture 5" descr="Risultato immagine per OROLOGIO PER BAMBINI DISEGNO"/>
          <p:cNvPicPr/>
          <p:nvPr/>
        </p:nvPicPr>
        <p:blipFill>
          <a:blip r:embed="rId1"/>
          <a:stretch/>
        </p:blipFill>
        <p:spPr>
          <a:xfrm>
            <a:off x="3860640" y="1557360"/>
            <a:ext cx="14227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omic Sans MS"/>
              </a:rPr>
              <a:t>L’autunno nell’arte….</a:t>
            </a:r>
            <a:br>
              <a:rPr sz="4000"/>
            </a:br>
            <a:r>
              <a:rPr b="0" lang="it-IT" sz="3200" spc="-1" strike="noStrike">
                <a:solidFill>
                  <a:srgbClr val="04617b"/>
                </a:solidFill>
                <a:latin typeface="Comic Sans MS"/>
              </a:rPr>
              <a:t>Questi i quadri presentati ai bambini…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32" name="Segnaposto contenuto 4" descr=""/>
          <p:cNvPicPr/>
          <p:nvPr/>
        </p:nvPicPr>
        <p:blipFill>
          <a:blip r:embed="rId1"/>
          <a:stretch/>
        </p:blipFill>
        <p:spPr>
          <a:xfrm>
            <a:off x="457200" y="3746520"/>
            <a:ext cx="2463840" cy="1805040"/>
          </a:xfrm>
          <a:prstGeom prst="rect">
            <a:avLst/>
          </a:prstGeom>
          <a:ln w="0">
            <a:noFill/>
          </a:ln>
        </p:spPr>
      </p:pic>
      <p:pic>
        <p:nvPicPr>
          <p:cNvPr id="233" name="Immagine 6" descr=""/>
          <p:cNvPicPr/>
          <p:nvPr/>
        </p:nvPicPr>
        <p:blipFill>
          <a:blip r:embed="rId2"/>
          <a:stretch/>
        </p:blipFill>
        <p:spPr>
          <a:xfrm>
            <a:off x="6027840" y="3732120"/>
            <a:ext cx="2444760" cy="1805040"/>
          </a:xfrm>
          <a:prstGeom prst="rect">
            <a:avLst/>
          </a:prstGeom>
          <a:ln w="0">
            <a:noFill/>
          </a:ln>
        </p:spPr>
      </p:pic>
      <p:pic>
        <p:nvPicPr>
          <p:cNvPr id="234" name="Immagine 5" descr="Visualizza immagine di origine"/>
          <p:cNvPicPr/>
          <p:nvPr/>
        </p:nvPicPr>
        <p:blipFill>
          <a:blip r:embed="rId3"/>
          <a:stretch/>
        </p:blipFill>
        <p:spPr>
          <a:xfrm>
            <a:off x="3355920" y="3860640"/>
            <a:ext cx="22366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c00000"/>
                </a:solidFill>
                <a:latin typeface="Comic Sans MS"/>
              </a:rPr>
              <a:t>AUTUNNO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6" name="Rettangolo 5"/>
          <p:cNvSpPr/>
          <p:nvPr/>
        </p:nvSpPr>
        <p:spPr>
          <a:xfrm>
            <a:off x="4416120" y="3244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 il mese di ottobre, iniziamo ad osservare il nostro giardino, che presenta i primi segni caratteristici dell’autunn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 sezione osserviamo alcuni quadri dove i colori  dell’autunno sono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olto  definiti: i bambini hann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elto di riprodurre questo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opo aver fatto realizzare il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segno dell’albero sul prat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segniamo ai bambini i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ottoni colorati per completar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loro quadro personale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Immagine 5" descr="Visualizza immagine di origine"/>
          <p:cNvPicPr/>
          <p:nvPr/>
        </p:nvPicPr>
        <p:blipFill>
          <a:blip r:embed="rId1"/>
          <a:stretch/>
        </p:blipFill>
        <p:spPr>
          <a:xfrm>
            <a:off x="1814400" y="3244680"/>
            <a:ext cx="261324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omic Sans MS"/>
              </a:rPr>
              <a:t>L’inverno : </a:t>
            </a:r>
            <a:br>
              <a:rPr sz="4000"/>
            </a:br>
            <a:r>
              <a:rPr b="0" lang="it-IT" sz="2800" spc="-1" strike="noStrike">
                <a:solidFill>
                  <a:srgbClr val="04617b"/>
                </a:solidFill>
                <a:latin typeface="Comic Sans MS"/>
              </a:rPr>
              <a:t>queste le opere presentate……</a:t>
            </a:r>
            <a:endParaRPr b="0" lang="en-US" sz="28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40" name="Segnaposto contenuto 4" descr=""/>
          <p:cNvPicPr/>
          <p:nvPr/>
        </p:nvPicPr>
        <p:blipFill>
          <a:blip r:embed="rId1"/>
          <a:stretch/>
        </p:blipFill>
        <p:spPr>
          <a:xfrm>
            <a:off x="755640" y="2644920"/>
            <a:ext cx="2838600" cy="1990440"/>
          </a:xfrm>
          <a:prstGeom prst="rect">
            <a:avLst/>
          </a:prstGeom>
          <a:ln w="0">
            <a:noFill/>
          </a:ln>
        </p:spPr>
      </p:pic>
      <p:pic>
        <p:nvPicPr>
          <p:cNvPr id="241" name="Immagine 6" descr=""/>
          <p:cNvPicPr/>
          <p:nvPr/>
        </p:nvPicPr>
        <p:blipFill>
          <a:blip r:embed="rId2"/>
          <a:stretch/>
        </p:blipFill>
        <p:spPr>
          <a:xfrm>
            <a:off x="3581280" y="4648320"/>
            <a:ext cx="2847960" cy="1885680"/>
          </a:xfrm>
          <a:prstGeom prst="rect">
            <a:avLst/>
          </a:prstGeom>
          <a:ln w="0">
            <a:noFill/>
          </a:ln>
        </p:spPr>
      </p:pic>
      <p:pic>
        <p:nvPicPr>
          <p:cNvPr id="242" name="Immagine 6" descr="Visualizza immagine di origine"/>
          <p:cNvPicPr/>
          <p:nvPr/>
        </p:nvPicPr>
        <p:blipFill>
          <a:blip r:embed="rId3"/>
          <a:stretch/>
        </p:blipFill>
        <p:spPr>
          <a:xfrm>
            <a:off x="6300720" y="2658960"/>
            <a:ext cx="264960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88760" y="692280"/>
            <a:ext cx="569124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omic Sans MS"/>
              </a:rPr>
              <a:t>INVERNO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16280"/>
            <a:ext cx="82915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opo il periodo natalizio, affrontiamo la stagione invernale e anche in questa occasione , dopo le dovute considerazioni sui cambiamenti visibili nel giardino , i bambini  scelgono un quadro di MUNCH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 giardino non c’è neve ma molti di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oro hanno trascorso le vacanze in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ontagna e tutti sono volati, c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fantasia , al polo da Babb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atale .La neve quindi è l’element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vernale per eccellenza…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opo aver tracciato il loro disegn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 l’aiuto di tempera e schiuma d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arba , i bambini hanno dipinto i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oro quadro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Immagine 6" descr="Visualizza immagine di origine"/>
          <p:cNvPicPr/>
          <p:nvPr/>
        </p:nvPicPr>
        <p:blipFill>
          <a:blip r:embed="rId1"/>
          <a:stretch/>
        </p:blipFill>
        <p:spPr>
          <a:xfrm>
            <a:off x="684360" y="2976480"/>
            <a:ext cx="36064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omic Sans MS"/>
              </a:rPr>
              <a:t>La primavera:</a:t>
            </a:r>
            <a:br>
              <a:rPr sz="4000"/>
            </a:br>
            <a:r>
              <a:rPr b="0" lang="it-IT" sz="2400" spc="-1" strike="noStrike">
                <a:solidFill>
                  <a:srgbClr val="04617b"/>
                </a:solidFill>
                <a:latin typeface="Comic Sans MS"/>
              </a:rPr>
              <a:t>alcuni quadri presentati ai bambini</a:t>
            </a:r>
            <a:endParaRPr b="0" lang="en-US" sz="24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47" name="Segnaposto contenuto 4" descr=""/>
          <p:cNvPicPr/>
          <p:nvPr/>
        </p:nvPicPr>
        <p:blipFill>
          <a:blip r:embed="rId1"/>
          <a:stretch/>
        </p:blipFill>
        <p:spPr>
          <a:xfrm>
            <a:off x="6227640" y="4648320"/>
            <a:ext cx="2600280" cy="1923840"/>
          </a:xfrm>
          <a:prstGeom prst="rect">
            <a:avLst/>
          </a:prstGeom>
          <a:ln w="0">
            <a:noFill/>
          </a:ln>
        </p:spPr>
      </p:pic>
      <p:pic>
        <p:nvPicPr>
          <p:cNvPr id="248" name="Immagine 4" descr="Risultato immagine per LEONNE CHRISTIE  PRIMAVERA"/>
          <p:cNvPicPr/>
          <p:nvPr/>
        </p:nvPicPr>
        <p:blipFill>
          <a:blip r:embed="rId2"/>
          <a:stretch/>
        </p:blipFill>
        <p:spPr>
          <a:xfrm>
            <a:off x="250920" y="2481120"/>
            <a:ext cx="2881080" cy="1863720"/>
          </a:xfrm>
          <a:prstGeom prst="rect">
            <a:avLst/>
          </a:prstGeom>
          <a:ln w="0">
            <a:noFill/>
          </a:ln>
        </p:spPr>
      </p:pic>
      <p:pic>
        <p:nvPicPr>
          <p:cNvPr id="249" name="Immagine 7" descr=""/>
          <p:cNvPicPr/>
          <p:nvPr/>
        </p:nvPicPr>
        <p:blipFill>
          <a:blip r:embed="rId3"/>
          <a:stretch/>
        </p:blipFill>
        <p:spPr>
          <a:xfrm>
            <a:off x="3333600" y="3933720"/>
            <a:ext cx="24768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it-IT" sz="4000" spc="-1" strike="noStrike">
                <a:solidFill>
                  <a:srgbClr val="00b050"/>
                </a:solidFill>
                <a:latin typeface="Comic Sans MS"/>
              </a:rPr>
              <a:t>PRIMAVERA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esta è la stagione dove tutto si rinnova e gli alberi del giardino si rivestono di foglie e fiori, il prato si colora di margherite…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 questa occasione i bambini scelgono di dipingere questo quadro    utilizzando gli acquerelli  per realizzare il cielo ed il prato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 seguito hanno aggiunt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 fiori utilizzando tappi di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lastica e palline di pasta di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ale preparat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ecedentemen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2" name="Immagine 4" descr="Risultato immagine per LEONNE CHRISTIE  PRIMAVERA"/>
          <p:cNvPicPr/>
          <p:nvPr/>
        </p:nvPicPr>
        <p:blipFill>
          <a:blip r:embed="rId1"/>
          <a:stretch/>
        </p:blipFill>
        <p:spPr>
          <a:xfrm>
            <a:off x="755640" y="3645000"/>
            <a:ext cx="41734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3T10:31:20Z</dcterms:created>
  <dc:creator>utente</dc:creator>
  <dc:description/>
  <dc:language>en-US</dc:language>
  <cp:lastModifiedBy>Admin</cp:lastModifiedBy>
  <dcterms:modified xsi:type="dcterms:W3CDTF">2019-10-02T18:20:12Z</dcterms:modified>
  <cp:revision>73</cp:revision>
  <dc:subject/>
  <dc:title>La matematica nel quotidiano</dc:title>
</cp:coreProperties>
</file>